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B1C6-EC4C-4FF0-81BD-447BF8CB1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4152-F78F-4083-8D8F-354AA5A61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ri - Decline in us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not been especially helpful in making decisions about specific instructional interventions or teaching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often set low expectations for student, resulting in diminshed effort to teach students who earn low sc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e, mentally retarded, specific subgroups…who are then disproportionately placed in special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rts have found IQ test discriminatory and mandated an end to their use (p. 241, Salvia, et 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ccultur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. 2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ndividual’s particular set of background experiences and opportunities to learn in both formal and informal educational sett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F875-6C1E-44A6-9D4E-E76168EE7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E409-17B4-4631-8CEA-82B127D5C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941D-58D3-4B8B-B224-4F38C4143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F6C-631B-487F-9E8D-2152BD78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1525-A34F-415C-A586-F4B24D26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EAA-7A65-46CD-825F-EB3FE017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CE37-88B6-428C-A9FA-5CEA1A19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21AD-D8A8-40C6-8914-65454BE7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B04E-56AF-4A19-B121-242A50C2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1822-BF01-4BF9-9D05-38F815BA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E97D-5138-4488-B6CB-D2F6F3A4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2780-27E0-47EF-AFE4-69283FD8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AE61-F35A-4E8B-9916-E3EA03A6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A7B9-A069-4109-9937-1D8A6146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2002-5B84-4799-B618-3189B2F5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5E90-7F0D-470E-A514-8B6CAC9C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FA3D-FB62-45F3-A26C-B60092C1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74B2-BFF8-40F1-B04C-9BF22C90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649A-4694-40BF-AE7F-5E4ABEC9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DDA1-F1CE-45EC-8353-7DECC5FC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506D-EE41-43C8-ACD1-A6001AED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FC34-BA66-4968-9497-DB824A24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306-B0F2-42DE-89D8-119F382D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623-F2CE-47C2-A264-1C7D57BC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6C3-2EB7-4C14-AF91-738E0DC5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228-8806-49DA-A767-078E11F6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1D77-9DBE-4CCF-B4BD-D8273916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9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noFill/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a1f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D4D7-A59D-492A-8ECB-731919566D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9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noFill/>
          <a:ln w="936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a1f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9282-08A4-4DD7-8B19-39D4A3C73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34160" cy="16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Q Testing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eb Quest Projec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ta Achampong, Marisol Craig, Christy Gruver, Patty Hillery, Jill Machemer, Lori Stol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mm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McNiff – ED 5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iqtestinggroup"/>
          <p:cNvPicPr/>
          <p:nvPr/>
        </p:nvPicPr>
        <p:blipFill>
          <a:blip r:embed="rId1"/>
          <a:stretch/>
        </p:blipFill>
        <p:spPr>
          <a:xfrm rot="20880600">
            <a:off x="1198080" y="515880"/>
            <a:ext cx="14479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Q Test Biases VS IQ Test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ersonality-and-aptitude-career-tests.com/iq-test-bias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∙tel∙li∙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ferred ability; a term or construct used to explain differences in present behavior and to predict difference in future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IQ Test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Q testing? What does it look like? How is it administered? What does it measure exactly and based on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ly Used IQ Te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76520"/>
            <a:ext cx="8381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ufman Assessment Batter for Childre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is-Lennon School Ability Test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body Picture Vocabulary Test-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-Binet Intelligence Scale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chsler Intelligence Scale for Children-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cock-Johnson III Tests of Cognitive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efit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.Q.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prsg.education.wisc.edu/gifted/iq_testing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efit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efit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Unconscious Bias of Intelligence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outhernct.edu/organizations/hcr/2001/nonfiction/testbia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 of IQ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a1f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7:52:31Z</dcterms:created>
  <dc:creator>Andrew</dc:creator>
  <dc:description/>
  <dc:language>en-US</dc:language>
  <cp:lastModifiedBy>Andrew</cp:lastModifiedBy>
  <dcterms:modified xsi:type="dcterms:W3CDTF">2010-05-31T14:45:57Z</dcterms:modified>
  <cp:revision>16</cp:revision>
  <dc:subject/>
  <dc:title>Published Test Instrument Critique WIAT</dc:title>
</cp:coreProperties>
</file>